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C1881A5B-1939-48DD-B4F9-B6113C1294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C7E64CA7-75DF-4853-A6DB-997029FCA848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programmid protsesso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63460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nanosekundites (ca) 20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00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548520" y="1214280"/>
            <a:ext cx="316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93280" y="1600200"/>
            <a:ext cx="584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2918160" y="21286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081800" y="4114800"/>
            <a:ext cx="1230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5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496240" y="297180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1320" indent="-301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htsal protsessoril on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rdam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e meeldetuletus: riistvara põhi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aar sõna p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otsessori tööpõhimõt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t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asinaläheda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ssembler ja masink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ache salvestab erinevaid hiljuti kasutatud põhimälu juppe 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ure on minimeerida 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Bitstream Vera Sans"/>
              </a:rPr>
              <a:t>Assembler ja C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oli kasutusel Apple II ja enamuse varaste koduarvutite protsessorina. Tal on üpris lihtsad käs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73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h va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godbolt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programmi valmi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Bitstream Vera Sans"/>
              </a:rPr>
              <a:t>Kordam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304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atame uuesti Turingi masina simu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ringi masina mälu on lint, mida loeb/kirjutab eraldi pe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 on eraldi tabelis ridadena, mis kõik on kuju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&lt;current state&gt; &lt;current symbol&gt; &lt;new symbol&gt; &lt;direction&gt; &lt;new st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morphett.info/turing/turing.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tel arvutitel saab lugeda/kirjutada mälu suvalisest 8-ga jaguvast kohast minimaalselt 8 bitti (üks bait) korraga. Mõnel protsessoril saab lugeda ainult 32-ga jaguvast kohast 4 baiti korra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ke on protsessoril palju ning nad asuvad sellessamas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560" indent="-2750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Rectangle 7"/>
          <p:cNvSpPr/>
          <p:nvPr/>
        </p:nvSpPr>
        <p:spPr>
          <a:xfrm>
            <a:off x="2271240" y="-203760"/>
            <a:ext cx="4601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&lt;current state&gt; &lt;current symbol&gt; &lt;new symbol&gt; &lt;direction&gt; &lt;new state&gt;</a:t>
            </a:r>
            <a:r>
              <a:rPr b="0" lang="en-GB" sz="400" spc="-1" strike="noStrike">
                <a:solidFill>
                  <a:srgbClr val="ffffff"/>
                </a:solidFill>
                <a:latin typeface="Times New Roman"/>
              </a:rPr>
              <a:t>'.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8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3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2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4" name="Straight Arrow Connector 39"/>
          <p:cNvCxnSpPr>
            <a:endCxn id="122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5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6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9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0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4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1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16T12:45:30Z</dcterms:modified>
  <cp:revision>36</cp:revision>
  <dc:subject/>
  <dc:title>PowerPoint Presentation</dc:title>
</cp:coreProperties>
</file>